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50A-4872-4712-A3F3-1307FA5A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2D2-34D7-4B7E-ACC9-53DA8A25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A6E6F-0E68-4795-BD84-E14D5E9D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E5CB5-2D4B-4893-9CB8-486CCAE2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F02B-736D-46CA-9AC3-4ED9D382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689EC-F620-4D6A-BEA1-827FEF28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CBCFF-284A-40EC-9FF7-ECE9A6A0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7FCCF-01C9-42C4-934C-871B5E9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74924-DC45-4E6C-B5F4-AACBB0A6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A0576-F7DE-48F6-BC64-55E67786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01A48-30A8-404E-8FFD-4C3A670A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4A788-A0A2-4C24-9539-102FA6AF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3A0-5F07-4F6A-A2DC-C360AE94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C59E1-4330-43AC-A1F2-911BF085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D05AB-B21B-47CC-9A3E-43B00468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CD71B-C47B-4080-B2E7-2FE880B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9F0F1-2062-40E2-92C9-D8080B9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B9B1B-9055-42DF-9D67-46B6F9C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85897-409E-4E1D-8F47-FDAA34A5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DF6C5-018C-4AA8-AD63-553E35E8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D17B0-8236-4592-8CEB-B0FFFBAA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285E9-C190-4006-9C32-1E4D121F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E5781-DC1C-43EA-9938-C323AEE2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619-341C-40A3-B55E-C824D5C2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B4799-B9AC-4B3D-8346-2A41AF7D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A6FB1-244C-4E68-8A77-D15FDD90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45D83-2799-49AD-8752-81B93FE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217C7-8CD6-46AB-AAB8-23939DF9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10BFB-C964-4F05-BDDE-6A84EB2F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8DCA5-5B00-432D-A918-223A2804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45054-CBBF-47B9-877D-CB70E5B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AA468-1BEE-4322-881A-675102E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C13BA-498B-4B1A-839C-BE4961AA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A225D-C27C-4119-A2EA-4EAFCF9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5A2F-0C8D-46D6-A9E3-773FC7A2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5D186-665D-4766-886D-90A2E610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CF233-E97F-4B5A-9FCE-9FD022D0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A633B-B9DA-49F1-86F3-3787EBBF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5E2C5-FF79-4C7E-BD2E-8E1A395F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3D3FF-7ECF-47F5-AE5B-037D1C43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5F4D5-C34A-4436-8B90-0D909537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AFFB6-1489-40ED-AA32-7FE36D64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860ED-7D89-4019-9589-7DB35315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38816-0AAB-4260-AB0E-44ECB32C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403AE-9D38-4300-B9E4-AB7FAB5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ACA1-B426-4851-BB55-65EDD68D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7EAAD-0798-412F-857F-CC1A57F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A6D9A-1916-464D-B985-A9C5FD71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75B8D-8EF1-4893-836F-B14DC21F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6D7F7-9728-470D-BBDF-137F6EBD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014D3-0AF9-4E10-8774-A5078849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AFD54-24C1-4061-A485-153C55B9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F2CED-687E-472C-8CE1-46E56573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1C4FD-8C5B-41E9-AB9E-8AD594C3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D8B3D-2B9A-4F67-BC5B-90655FB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4D4F7-DE04-439A-AEA5-8F9DBECF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6D41-3941-4D63-A23C-A37AB48B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6166F-8927-458E-854B-7E4322A7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1BE46-4DF5-4032-988B-CCDD74C0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DB0F2-96C3-48C4-9602-DD6E295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77E5A-C56B-4052-980B-37390322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17AF4-5E71-4BD2-83AE-CFDF8BD9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19DBF-ABA7-46AF-88A6-908121A0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E8846-9BE3-4E71-A21C-B11BD364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3B9CA-13DC-41AC-922F-71B896A5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7A304-B1A6-4BED-9707-A68AEE79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6ACE2-D334-45DA-924F-46AA11C8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A583-0188-430B-9BCC-D477701B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22DC3-B783-4CE5-9A5E-D79AE521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EBEE4-B17D-47E5-B211-D9E71900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B6E4A-678B-4C2C-A657-BC63A8E9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352D60-3934-4E1F-8A41-0DF327E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40EB3-4D87-4BE8-8D02-A960454B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EBC29-7CA8-41F1-89FC-66DE9445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735A5-B3D7-4A3E-8CC4-EF1C91AA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E81AC-87F3-4B69-8312-384E2B81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E1D6C-D44B-4753-8FD0-79D280B6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93D70-8827-4427-97FA-A8328F26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9E4D-EABE-4C1D-AF34-768361D0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7500B-0384-4FCE-A59F-BE507F2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F5F95-BE21-4278-937C-1E733DC9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5624E-A604-4029-955C-47F208F0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306B5-5B17-4E52-8FDD-01BC4A17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5F210-43D2-4C55-AA57-DCA62230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D4603-EF9A-4E31-8D12-68B6933E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44E02-B20B-4E2A-A150-EE71A4AE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3A7AA-9580-40F2-A2F1-43258D2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61FD8-420B-4402-8EC8-E7E9EE5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B0FE4-2475-48F8-B3FF-0AE2347A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196A-B277-45C4-AC4C-C485903E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825961-C8EA-4E1C-9056-A6B48536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F18D5-F4BA-48CF-98B7-1266024B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85D92-09F6-4D22-B044-F8F60B74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D3406-4B22-4869-90BC-D8BC248C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85BB6-35F9-4EBC-884F-D36C4832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B8351-CB80-48A3-86A4-37096E66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84C9F-52C0-49CF-838C-E891C9E2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B6DA8-BA9C-4FB0-BD79-FA534159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FB797-BD8E-4A5D-9E43-E32017FC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303C5-D869-4DD5-805B-74072B5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7053-4394-4DA5-AEF0-BF17F6B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BBAD0-68C6-4988-8EE4-9F6D041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27CFE-A4F3-4163-95B2-4AC87136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5993F-627F-41BD-9B14-7B930738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8A86B-9B30-4707-A3F8-B35A4A64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506AC-06AA-4FF9-9E92-BAE58B48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2282A-3C0C-4255-A1B3-6EFE2A1A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F32F6-B8A8-4DD3-AC0C-3D89FB76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0682A-D46A-446E-BA2B-0E5F6225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1D82D-3EAA-4FE0-9789-A22BC89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5BD87-FCF5-4830-86F6-E4DE61B1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731-2587-440B-AF2F-A8EA6FDD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07F3-F59C-4A03-9EF7-08B6CEA8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FF55F-D621-4BFD-A6EF-F993DB48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45FAB-7698-4D1A-8EB9-8027E947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09B93-02DA-4A8C-A64B-D81F9F90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9DE9A-41C5-41BC-B4CD-CD25AA93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3BB20-4B2E-4DEB-934C-9D027ED9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6AC41-FDDC-4B6A-8219-1BE1685C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FAA0D1-B6CC-4A96-889D-946F34B8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5FB2B-0B17-4863-8E8A-AEF4CD16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5A9F0-8272-48A0-A7B7-A3FE1B7E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51C0E-6B94-45FA-9E51-F21B1F52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0B93-EA5D-44C5-BEBF-F64A01E5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3FD3B-3C48-4631-980B-9BA9C8D8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0D8B2-34F8-4F3F-9818-AB8A24F7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5AA74-5D54-4F9F-9C49-3BCDAFDE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E64F5-F0B4-4FD4-8701-44D75775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D419B-1DA7-4977-86B7-0166A1D6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048DE-0048-4F41-B9EF-8CEB5055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71910B-ABF9-4BF5-92EE-F4900785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94DB8-1C28-47B8-9B67-6FC08816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6EDACC-E774-4B39-9FF4-D554DFB3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B76AA-6AC1-4CEF-9623-FBD3CC97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D445-76FF-4679-876F-810C121E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7ED4F-7F6A-4A7A-AF9E-D74B024A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F9AF6-28E2-4FCF-A6E8-1CDA1122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65932-BF7A-488B-A991-6597DFA1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B4E39-5BCE-4C59-9A62-802AC57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70BDB-EFE9-4936-8E5F-8BBCCC27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7A457-5298-46E1-A3D8-B003310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C5F88E-927C-41BE-9048-53B04E4D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E93F4-91BE-4943-B9C9-13D6411F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45AD41-E841-416A-BB52-63709629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ACB0D7-6A27-4CB5-817D-BF3E6443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DB4D-0C96-46C7-A8DB-4BCBA9F3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488122-0C01-4A05-ABE0-DC75C0AB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1E115-484F-4761-A479-3B08D215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9F0207-15E9-447B-B9DA-4908334F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8E2260-4680-4274-8781-EBD5B1A6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A38B1-A071-47E0-AD9B-F6A287CE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AAF5B-66CF-4D7F-AF47-B1ED0133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066DD-A299-4BDB-BB1F-7B032527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6F03A3-B769-4CC8-BCB6-616E7FE3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F029F-CB7D-4AAE-A9E3-24E5126A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D36D1-1CC1-48B1-82DE-09EF907A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1E78-64B0-4E2D-B475-D2E8684A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F99E3-A37C-498D-90FB-D77B6EC0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AB2C8D-4A6F-45CC-9368-36F3FD03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7EEF2-80E9-4873-AB97-FFBB5C06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50352-0077-4322-A545-47770D66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CA7AAA-BE38-4337-9E8C-C7B2D48C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923358-6C1D-4FBA-96BE-D88B0278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04FF08-6AA1-4A82-8A76-7FC8598F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2EF5A-A86D-4D54-A90C-70AD1774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23162-1721-416C-9A2E-0F0C5698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5356B-10F2-43C5-A236-442D3B44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5689-84A0-4A13-813B-903B798A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94832E-2D28-4FEE-BC73-357C2214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BC421-2B28-490B-96FD-7B021957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2066A-DEDA-4E77-9BC0-ED31158F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FD2F74-2FBC-4D6D-8A5E-BF758257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7A5276-6A50-4CA8-B1EE-73411C96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2F3B9-6C7C-47FB-B40E-2D20EF9D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ABB539-C5EC-43EF-864C-B0D5F57D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215F35-1BAA-4B1E-8DE8-8DA2704D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77F691-2A14-44FA-8864-0622C3B8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C8B5D-AF17-4CA1-B9EA-A7C2885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0F75-D71B-44DD-AF43-1B212AD1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B1364A-8417-4C5A-A259-9C3F9AD4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2CEDF1-00B4-4EEF-BC03-E2D80735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83E85-9E5A-44EF-9AC1-5A1E2149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3EEA53-AEBE-40D6-BB4B-E409D7C1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8421AB-7FE6-4D55-8F67-22099506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001DBF-7ED5-4074-B841-F1ACF415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09AE27-1A81-4183-B000-829F23E7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D08BEB-C2FA-4603-8962-5C0AC735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88FAE4-777F-476A-9C8F-FB6D293A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298803-4CF2-4FC4-99B6-50AA0C81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0F7B-4ED6-4A3F-BF65-ECE84AFC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99A3B1-B6DD-4DFF-B14F-A1B8C985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46873A-E177-49F0-8ED5-A9F4DD03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BFDC97-6BCD-4564-B856-66A161AF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2D6985-7695-422E-B283-F9D80DB5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F56E6F-796C-4821-AE45-C25A209D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CC9CD1-3197-458C-8B5D-46E4A351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196BF9-E0AC-44CA-82CD-E8BC2AD2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CDB7C8-CE24-4197-853A-C7076925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A24909-8C06-4F1D-B059-B96156ED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CE711C-89DC-4F85-99F2-B7CF2346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93A4-F09D-4750-A2CA-905E0B79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0CCAA7-F971-4B85-A620-9836904C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1E320A-7D13-4CA3-8FA6-9ED4EFC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245240-2112-4B25-B667-E1C59C63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98BC4F-1537-4EE8-B9D0-4088464F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B4FA8D-53D7-4FE0-BECF-7C3C9B3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2ECBAA-D4AA-434A-A899-DEB8696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AB41FC-8382-4A84-A93D-7382AF69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3B9E5B-21DE-489D-BE29-5CA29F63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FF7AFD-282B-4CD3-9995-8B946C88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71E5B5-703D-45B5-9597-8E796B21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169B-2222-45EA-ABAE-25DB8973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86D19E-B2EB-4D7A-9709-72E1AF4A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62B423-AA02-47A0-A08F-F832D877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E81CA1-1AB1-4EDC-A5B4-026694A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B7D606-5F6D-4CFF-ACD5-BA927891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DF776B-9EC9-43AF-8719-8CFAD5EF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BD760-0E96-4119-9497-A760CF4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1F76E7-4830-4C4B-B342-D1A6910E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02A254-337B-42C9-B889-BC17CBC0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71C44F-AA62-4C14-A926-B849C109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511587-247A-4130-BF99-B51A7ADC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EB4-7EDB-43AB-A771-857770FF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EC3E-6C54-4CCE-A730-A0560DE5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48D047-3990-47F2-B5E2-812DFBC2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B1CAB2-6696-4A2D-BCB3-1DB43D5A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532E53-FCA8-44A1-85EC-39F2556C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958390-7944-4039-8625-29034170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4E31A2-7344-40C0-9ABA-2014F1A3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0B46D0-76A5-4D48-BAC9-27886D11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01C5C0-E425-4830-9EA4-768FF741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A07015-78AE-4007-AFEE-29BD007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663664-3A66-45A8-BD96-1C4B254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E4E624-41A4-4D04-A3BD-728C9E67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3680-E3C7-40B5-B5A9-31FE0605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CC5D42-DB9A-4563-8930-81772D44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7FC669-1052-4112-BF58-2AF2C3EC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73211B-6F8B-4ABF-B3F7-71F83987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B5EAED-ADE8-48D8-B8A5-EF81B1F8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95655F-E323-418F-979B-D11F37C8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5A4EEA-BCB0-4C48-A7DE-B0740112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F3BDA8-F0ED-4D9D-82E3-51B17782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693A67-18AD-439A-9575-B8644D5D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AA1EA4-D808-4D35-9E7D-DBA2EF84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86024A-CDB2-4EFA-ACA6-A3F8FCF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A78B-DBD0-43CB-AF38-BF743C83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F41CFC-8185-4BE1-8679-C9949804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4837E9-D8BE-482D-93F8-9CEF34E0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B6F3F7-B074-4461-904B-D46EB5B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33037D-A946-47BE-B947-12E933E2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362B31-DA46-43C3-A2F6-B11304F9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83BA84-A322-48B9-908D-20E8367B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CEF105-19A4-408D-BB08-8BE8F855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E1E273-FD3A-46CD-8355-0EF3F8D5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2D21A0-39E1-489F-B19B-6DD20A88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200DD8-D7F3-44EF-BA1A-6DF6656A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1370-445B-482E-8EFA-F708FEDF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96D5E6-6CD2-47B1-A113-1F8E319C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09D1B5-3818-43FD-8383-C4F57D14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A849F9-C1FB-4E8D-80FF-76B9EB94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7863E6-BD3E-443C-ACEA-C7A7AEF8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C4A66F-E04C-437D-B03A-8183A3FF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65E865-E5C7-4B7C-B041-22EE993A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6DBC7C-2196-4483-9E10-B6A0FA34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793D49-83A0-4604-A0C8-112DAB49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493F80-D64C-460E-84F5-BBFA0ABE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B6E38F-554F-4CE3-85D2-86EE735B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4506-F344-4AEC-AC04-481CFD3D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6DA90D-7F79-4DE4-BBA6-9F79C2CF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66CAC7-C65A-4CFE-8A4D-FDAF905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B3CE5F-AFE1-4C8C-808E-0A6E9953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EE8F3B-AD4E-4917-95EF-ECB942F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5B2B3C-1F88-4D7A-8ABE-CA4A18D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F6A790-5A24-4D0B-B02A-ECF736F4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E1C579-312B-4AAF-8E77-1042C370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450181-09AA-4450-9B23-755F92B3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647965-228A-4E28-9F9B-3F33A2D8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A65D02-0F06-49C8-A8B8-EAC9EF08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D99D-35D2-47EE-92A9-61E0D3D2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F09700-84C5-4522-8B7A-82E08C93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4B1130-65C2-4F19-8959-6355374B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601E3E-A641-49ED-B10D-A7901930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C35313-DF4F-436F-8015-D2DF80C2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4C63EF-5DE7-440A-B705-6AAEE984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3AB0D3-AF83-4A7F-AD95-2F2BC6BA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1C3943-B16F-40E1-8B73-1D044020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A229C1-B4AA-4BD0-AB66-E63EBA18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CEB2F0-D15A-4969-B25F-E82B6D06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4745E2-BD37-4139-A2A0-F1C2A2BF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4FF2-556F-4A21-882E-B71DF5F9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8AAC0A-D632-49CE-9304-3DE1E258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8683EF-275D-4550-B6CE-EDA88D92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34B11B-E3BF-40CA-8051-DD41CE0E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DA041D-DD1A-4E83-9988-DCEF5C47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18D78E-77D6-419F-A983-EE0BCFAD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585271-BE4F-41BE-8A81-6FDA5133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007D6D-69D6-4E08-9358-82AAC7C7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1096C6-D89E-4B69-AA83-F5C55C17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428C52-211B-4003-9132-EE3F30B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616D89-F034-4D07-BDE2-6CEC8B7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84894-7762-422E-8CA7-C183CC83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ECDFF8-4686-4C90-873C-90DD98E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BFEC6E-F4B4-48B2-8F4A-F690B5D9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6E70B8-91EC-4094-8ABB-11C6404F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6F593-4228-43C5-9FC6-6190F523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E173-DC85-4E20-AFC3-3157672F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D26-E8E0-43C9-9F32-327F106E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9212-09CE-45C4-9492-E497864F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9D5F-C7FD-4126-9521-97490F6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323B-392B-4276-A08F-1CB3B313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5CF9-4224-4239-94DE-942568B4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1648D-779D-4A5D-AEA1-2DFD65A8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0AED-09A4-4003-8D27-FBD37AA4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5B1B-827D-4A57-92DA-FF10B33F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3146-378F-4511-AE54-076BFDD9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5E7A-AB00-44C9-88E9-903A7ACB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E5C5-B44B-41A3-A21E-11CE00B0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B3A-BC5B-4A39-8D68-D84C4148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80B9E-BFBE-40AA-94F8-978B7B09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620FE-3A17-4D6A-A5F9-1EAE24E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ABF10-A984-4731-B97C-BC728D8E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86D6-7CBC-451F-81BF-818E2120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BD626-CA25-437C-9F45-AC47A069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3E99B-FCD1-42FE-8A46-364A5603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31D9B-BE5A-4AE7-BC85-45384F25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7212-DA8D-4A53-B961-EAFBD6FC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DFEE-F956-4326-88BA-CCC3F755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69AAC-DB33-4058-89BC-F72EB53C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651-283B-427C-9972-21CBB331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C992-FBAF-458E-B9B8-10716743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6B40F-578B-4110-BDEB-81ACB132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66880-376C-4D74-89F7-F372041C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729D7-A0EA-421B-BA63-466D33B8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FFD1-1227-4F48-AF20-E419B8CE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5B425-2010-4D61-A9B3-AD0423BA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3C6C-7912-42C1-ABB4-0A1742E9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3BBF0-85F9-4352-ADE1-CA38D91D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AD14-4DC4-41EF-B1B1-AD75ABE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2D8AD-C54A-449E-8C9E-6F8C5804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897-1D55-4788-8002-8D8EC2B8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DEC62-C507-478B-9396-B20F9251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E7655-DACC-46C4-A3DA-B03AA81D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7E1A-A9C0-4237-9E74-687D5B82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AEE0-8515-41BE-B6FB-E5DD0A55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A0CBF-5D0E-47A8-BE88-B190D852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A3526-B060-42D5-81BC-BC96D493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A1FAC-C372-40B0-B393-3A5E43A4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D292A-2D6F-428F-BB80-6A484AEA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39C6D-4294-4097-91B2-3D8B9334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C55A8-E18A-4AC3-832B-D9B80BB3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03F-DF1E-477E-AA2F-A3E3E80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0B3C-B97F-46EE-B2BE-44F560E6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F7926-AA33-44E6-8DD4-413CBDA9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3BACB-8CC8-49F8-9DE1-340E15DD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80880-CEBA-4B7B-9B80-BF6FA7D6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BFB46-9C26-40A7-9829-F99CE28A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C091B-5572-4E8B-B6BF-7F6E6883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5A749-D45E-470F-9A47-E6852E08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17B0B-F981-40D5-9E5F-94B7284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A149B-DAFA-4A3A-BA8C-9185AD89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C8B2D-5473-4292-8244-5D9DF866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E25-AA31-409E-94C8-D570146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4D6CE-0DA2-4B06-AC2F-DD0D899C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2CEDB-8390-4062-A94C-423A66D7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38AEC-9962-4E87-B796-CEE277C5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E3E6-2C1F-440B-9FAD-8D874B1F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DE1D6-DC5C-427F-808E-0D744B2B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57AC7-1B10-4FE1-9A59-A22FFED7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8FFB5-250C-4709-BF38-A62D1647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2CA88-B371-4C20-87F0-0C06C10F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75720-1613-479E-8711-1F8B2D74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E940C-0E5C-48B8-BA50-F7098E12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4BE-4453-4277-9B68-468E690F79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0A90-399D-435A-84C1-5F5B1F39EB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B383-91BC-4E0D-AAB3-7597223B3D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73F8-3123-4DF8-9BFA-8E1E77A1E6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E388-7C4E-483B-9B6E-DF44677130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FF2-0FDD-4886-A8F8-E4FEA73371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00D6-773D-426B-998C-217D592EBC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8579-6AB8-413F-9329-5DC411B3B2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BAA1-94E3-4DD3-9FC9-8D4935586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34B8-7A9F-4690-B706-4EA70B0A2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F149-BBD9-472D-A09E-94DD702881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6BD7-CAE5-40C6-AF09-DC037D293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232E-E7B0-4282-892E-455E8A47A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47E9-D3D4-4880-891E-C8FCDF488F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C353-CA09-4DB7-9A40-C7A7A5669F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B854-06AB-477E-8A7B-40988C652C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08D5-611C-45F1-B89C-8B48ED898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0511-70A8-4C5C-A7A8-BDC3D077AF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1827-6130-46DC-A8A0-F4771C21DE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EA7D-BF98-44E9-9C1C-5C4D91AB43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056B-4F5B-4508-BC8C-F2A5046C9A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B65F-D0C3-48B6-9142-B1F127BC20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A7F7-5D45-4710-A9C7-02A2384DE5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BB6D-7677-4414-88D9-5B7998EA74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547C-C83A-4837-8A97-5F1B51916C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CF48-963F-4651-A822-1A241A5A2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1D68-BFF8-448B-A75A-D7466C4EC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43D9-E195-495B-96CF-2B0EF239E0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C47E-6880-4826-8B62-AE8CFE7D1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035B-6058-47E0-9BE4-0C6CDF21D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F62F-6753-4B37-BF3B-E58F907B7F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5C88-0C6F-4190-9857-29638339A2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17EC-8DB0-4607-BA45-7A5257039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B874-2694-48CE-AB97-EE5BD1DB7E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F4DD-BA94-4458-B53D-DC70AB3EF9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B618-63A3-41FB-938D-C3CC9E0BE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A9D-FD6A-4705-AE60-8AAF821C2C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83F3-EAFC-471D-92C4-BF00CC9FDC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6C34-64C2-4BB5-B1BF-F88E7C176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9AF-39CF-4015-AD0D-E54913C7E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FE9A-8058-498E-BBC0-C39B91BDC3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DDBE-3C8E-47D0-A60B-1578A72ACD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08C1-C294-4490-B75E-12E239AB8D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6170-CBA0-4501-90CA-17EF5C30D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9D0F-D813-4383-ACD3-0A95DABECA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78EF-ADE3-42A8-B81D-B34CD8E5C6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66D4-CE4B-4521-8CD2-BA39154F17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1E68-56FD-43A3-BF6D-E6996ACAC9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48BB-1B1D-47D3-A162-BFBCB72450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6968-1636-4EFE-B01B-807C9C88D3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76040" y="2252520"/>
            <a:ext cx="87919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6737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8839440" cy="403848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6738"/>
          <p:cNvSpPr/>
          <p:nvPr/>
        </p:nvSpPr>
        <p:spPr>
          <a:xfrm>
            <a:off x="5867280" y="270828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16739"/>
          <p:cNvSpPr/>
          <p:nvPr/>
        </p:nvSpPr>
        <p:spPr>
          <a:xfrm>
            <a:off x="8178840" y="448632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5713" descr=""/>
          <p:cNvPicPr/>
          <p:nvPr/>
        </p:nvPicPr>
        <p:blipFill>
          <a:blip r:embed="rId1"/>
          <a:stretch/>
        </p:blipFill>
        <p:spPr>
          <a:xfrm>
            <a:off x="185760" y="2286000"/>
            <a:ext cx="8772480" cy="228600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5714"/>
          <p:cNvSpPr/>
          <p:nvPr/>
        </p:nvSpPr>
        <p:spPr>
          <a:xfrm>
            <a:off x="8317080" y="292428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4689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829720" cy="589572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4690"/>
          <p:cNvSpPr/>
          <p:nvPr/>
        </p:nvSpPr>
        <p:spPr>
          <a:xfrm>
            <a:off x="8317080" y="184464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3665" descr=""/>
          <p:cNvPicPr/>
          <p:nvPr/>
        </p:nvPicPr>
        <p:blipFill>
          <a:blip r:embed="rId1"/>
          <a:stretch/>
        </p:blipFill>
        <p:spPr>
          <a:xfrm>
            <a:off x="181080" y="843120"/>
            <a:ext cx="8781840" cy="517176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3666"/>
          <p:cNvSpPr/>
          <p:nvPr/>
        </p:nvSpPr>
        <p:spPr>
          <a:xfrm>
            <a:off x="8244000" y="90792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2641" descr=""/>
          <p:cNvPicPr/>
          <p:nvPr/>
        </p:nvPicPr>
        <p:blipFill>
          <a:blip r:embed="rId1"/>
          <a:stretch/>
        </p:blipFill>
        <p:spPr>
          <a:xfrm>
            <a:off x="85680" y="1214280"/>
            <a:ext cx="8972640" cy="442944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2642"/>
          <p:cNvSpPr/>
          <p:nvPr/>
        </p:nvSpPr>
        <p:spPr>
          <a:xfrm>
            <a:off x="1162080" y="4749840"/>
            <a:ext cx="6505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2643"/>
          <p:cNvSpPr/>
          <p:nvPr/>
        </p:nvSpPr>
        <p:spPr>
          <a:xfrm>
            <a:off x="1111320" y="5283360"/>
            <a:ext cx="6505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1617" descr=""/>
          <p:cNvPicPr/>
          <p:nvPr/>
        </p:nvPicPr>
        <p:blipFill>
          <a:blip r:embed="rId1"/>
          <a:stretch/>
        </p:blipFill>
        <p:spPr>
          <a:xfrm>
            <a:off x="104760" y="1738440"/>
            <a:ext cx="8934480" cy="338112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1618"/>
          <p:cNvSpPr/>
          <p:nvPr/>
        </p:nvSpPr>
        <p:spPr>
          <a:xfrm>
            <a:off x="4324320" y="4005360"/>
            <a:ext cx="1362240" cy="63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1619"/>
          <p:cNvSpPr/>
          <p:nvPr/>
        </p:nvSpPr>
        <p:spPr>
          <a:xfrm>
            <a:off x="5594400" y="4724280"/>
            <a:ext cx="1361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0593" descr=""/>
          <p:cNvPicPr/>
          <p:nvPr/>
        </p:nvPicPr>
        <p:blipFill>
          <a:blip r:embed="rId1"/>
          <a:stretch/>
        </p:blipFill>
        <p:spPr>
          <a:xfrm>
            <a:off x="185760" y="1795320"/>
            <a:ext cx="8772480" cy="32673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0594"/>
          <p:cNvSpPr/>
          <p:nvPr/>
        </p:nvSpPr>
        <p:spPr>
          <a:xfrm>
            <a:off x="7232760" y="2197080"/>
            <a:ext cx="10843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0595"/>
          <p:cNvSpPr/>
          <p:nvPr/>
        </p:nvSpPr>
        <p:spPr>
          <a:xfrm>
            <a:off x="7829640" y="2603520"/>
            <a:ext cx="919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0596"/>
          <p:cNvSpPr/>
          <p:nvPr/>
        </p:nvSpPr>
        <p:spPr>
          <a:xfrm>
            <a:off x="4184640" y="2997360"/>
            <a:ext cx="1539720" cy="11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0597"/>
          <p:cNvSpPr/>
          <p:nvPr/>
        </p:nvSpPr>
        <p:spPr>
          <a:xfrm>
            <a:off x="6699240" y="4648320"/>
            <a:ext cx="919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09569" descr=""/>
          <p:cNvPicPr/>
          <p:nvPr/>
        </p:nvPicPr>
        <p:blipFill>
          <a:blip r:embed="rId1"/>
          <a:stretch/>
        </p:blipFill>
        <p:spPr>
          <a:xfrm>
            <a:off x="104760" y="1162080"/>
            <a:ext cx="8934480" cy="453384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09570"/>
          <p:cNvSpPr/>
          <p:nvPr/>
        </p:nvSpPr>
        <p:spPr>
          <a:xfrm>
            <a:off x="4489560" y="3141720"/>
            <a:ext cx="136188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09571"/>
          <p:cNvSpPr/>
          <p:nvPr/>
        </p:nvSpPr>
        <p:spPr>
          <a:xfrm>
            <a:off x="4971960" y="4343400"/>
            <a:ext cx="1905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09572"/>
          <p:cNvSpPr/>
          <p:nvPr/>
        </p:nvSpPr>
        <p:spPr>
          <a:xfrm>
            <a:off x="4184640" y="4762440"/>
            <a:ext cx="3916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09573"/>
          <p:cNvSpPr/>
          <p:nvPr/>
        </p:nvSpPr>
        <p:spPr>
          <a:xfrm>
            <a:off x="3981600" y="5308560"/>
            <a:ext cx="102204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0854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753400" cy="752400"/>
          </a:xfrm>
          <a:prstGeom prst="rect">
            <a:avLst/>
          </a:prstGeom>
          <a:ln w="0">
            <a:noFill/>
          </a:ln>
        </p:spPr>
      </p:pic>
      <p:pic>
        <p:nvPicPr>
          <p:cNvPr id="1478" name="图片 10854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29440" cy="174312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08547"/>
          <p:cNvSpPr/>
          <p:nvPr/>
        </p:nvSpPr>
        <p:spPr>
          <a:xfrm>
            <a:off x="5391000" y="2946240"/>
            <a:ext cx="4906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07521" descr=""/>
          <p:cNvPicPr/>
          <p:nvPr/>
        </p:nvPicPr>
        <p:blipFill>
          <a:blip r:embed="rId1"/>
          <a:stretch/>
        </p:blipFill>
        <p:spPr>
          <a:xfrm>
            <a:off x="309600" y="685800"/>
            <a:ext cx="8524800" cy="548640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07522"/>
          <p:cNvSpPr/>
          <p:nvPr/>
        </p:nvSpPr>
        <p:spPr>
          <a:xfrm>
            <a:off x="3625920" y="1143000"/>
            <a:ext cx="281772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07523"/>
          <p:cNvSpPr/>
          <p:nvPr/>
        </p:nvSpPr>
        <p:spPr>
          <a:xfrm>
            <a:off x="5911920" y="1676520"/>
            <a:ext cx="21160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07524"/>
          <p:cNvSpPr/>
          <p:nvPr/>
        </p:nvSpPr>
        <p:spPr>
          <a:xfrm>
            <a:off x="3753000" y="5740560"/>
            <a:ext cx="341136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829720" cy="563904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8388360" y="364500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06497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30568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06498"/>
          <p:cNvSpPr/>
          <p:nvPr/>
        </p:nvSpPr>
        <p:spPr>
          <a:xfrm>
            <a:off x="1212840" y="2832120"/>
            <a:ext cx="343044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06499"/>
          <p:cNvSpPr/>
          <p:nvPr/>
        </p:nvSpPr>
        <p:spPr>
          <a:xfrm>
            <a:off x="1276200" y="3873600"/>
            <a:ext cx="423252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06500"/>
          <p:cNvSpPr/>
          <p:nvPr/>
        </p:nvSpPr>
        <p:spPr>
          <a:xfrm>
            <a:off x="1149480" y="4838760"/>
            <a:ext cx="423216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06501"/>
          <p:cNvSpPr/>
          <p:nvPr/>
        </p:nvSpPr>
        <p:spPr>
          <a:xfrm>
            <a:off x="3016080" y="5511960"/>
            <a:ext cx="423252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125953" descr=""/>
          <p:cNvPicPr/>
          <p:nvPr/>
        </p:nvPicPr>
        <p:blipFill>
          <a:blip r:embed="rId1"/>
          <a:stretch/>
        </p:blipFill>
        <p:spPr>
          <a:xfrm>
            <a:off x="176040" y="1386000"/>
            <a:ext cx="87919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26977" descr=""/>
          <p:cNvPicPr/>
          <p:nvPr/>
        </p:nvPicPr>
        <p:blipFill>
          <a:blip r:embed="rId1"/>
          <a:stretch/>
        </p:blipFill>
        <p:spPr>
          <a:xfrm>
            <a:off x="347760" y="1981080"/>
            <a:ext cx="8448480" cy="289584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26978"/>
          <p:cNvSpPr/>
          <p:nvPr/>
        </p:nvSpPr>
        <p:spPr>
          <a:xfrm>
            <a:off x="1352520" y="2336760"/>
            <a:ext cx="43718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26979"/>
          <p:cNvSpPr/>
          <p:nvPr/>
        </p:nvSpPr>
        <p:spPr>
          <a:xfrm>
            <a:off x="1289160" y="2781360"/>
            <a:ext cx="551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26980"/>
          <p:cNvSpPr/>
          <p:nvPr/>
        </p:nvSpPr>
        <p:spPr>
          <a:xfrm>
            <a:off x="5746680" y="3213000"/>
            <a:ext cx="285768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26981"/>
          <p:cNvSpPr/>
          <p:nvPr/>
        </p:nvSpPr>
        <p:spPr>
          <a:xfrm>
            <a:off x="781200" y="3619440"/>
            <a:ext cx="371952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26982"/>
          <p:cNvSpPr/>
          <p:nvPr/>
        </p:nvSpPr>
        <p:spPr>
          <a:xfrm>
            <a:off x="5391000" y="3619440"/>
            <a:ext cx="242100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26983"/>
          <p:cNvSpPr/>
          <p:nvPr/>
        </p:nvSpPr>
        <p:spPr>
          <a:xfrm>
            <a:off x="4730760" y="4025880"/>
            <a:ext cx="242100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26984"/>
          <p:cNvSpPr/>
          <p:nvPr/>
        </p:nvSpPr>
        <p:spPr>
          <a:xfrm>
            <a:off x="7956720" y="4005360"/>
            <a:ext cx="67608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26985"/>
          <p:cNvSpPr/>
          <p:nvPr/>
        </p:nvSpPr>
        <p:spPr>
          <a:xfrm>
            <a:off x="882720" y="4444920"/>
            <a:ext cx="275256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28001" descr=""/>
          <p:cNvPicPr/>
          <p:nvPr/>
        </p:nvPicPr>
        <p:blipFill>
          <a:blip r:embed="rId1"/>
          <a:stretch/>
        </p:blipFill>
        <p:spPr>
          <a:xfrm>
            <a:off x="404640" y="1766880"/>
            <a:ext cx="8334720" cy="332424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28002"/>
          <p:cNvSpPr/>
          <p:nvPr/>
        </p:nvSpPr>
        <p:spPr>
          <a:xfrm>
            <a:off x="1924200" y="3365640"/>
            <a:ext cx="847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28003"/>
          <p:cNvSpPr/>
          <p:nvPr/>
        </p:nvSpPr>
        <p:spPr>
          <a:xfrm>
            <a:off x="1301760" y="3865680"/>
            <a:ext cx="471024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28004"/>
          <p:cNvSpPr/>
          <p:nvPr/>
        </p:nvSpPr>
        <p:spPr>
          <a:xfrm>
            <a:off x="4356000" y="4280040"/>
            <a:ext cx="439272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28005"/>
          <p:cNvSpPr/>
          <p:nvPr/>
        </p:nvSpPr>
        <p:spPr>
          <a:xfrm>
            <a:off x="895320" y="4691160"/>
            <a:ext cx="414504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29025" descr=""/>
          <p:cNvPicPr/>
          <p:nvPr/>
        </p:nvPicPr>
        <p:blipFill>
          <a:blip r:embed="rId1"/>
          <a:stretch/>
        </p:blipFill>
        <p:spPr>
          <a:xfrm>
            <a:off x="442800" y="2000160"/>
            <a:ext cx="8258400" cy="285768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29026"/>
          <p:cNvSpPr/>
          <p:nvPr/>
        </p:nvSpPr>
        <p:spPr>
          <a:xfrm>
            <a:off x="2749680" y="4465800"/>
            <a:ext cx="67608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图片 130049" descr=""/>
          <p:cNvPicPr/>
          <p:nvPr/>
        </p:nvPicPr>
        <p:blipFill>
          <a:blip r:embed="rId1"/>
          <a:stretch/>
        </p:blipFill>
        <p:spPr>
          <a:xfrm>
            <a:off x="604800" y="1419120"/>
            <a:ext cx="7934400" cy="4019760"/>
          </a:xfrm>
          <a:prstGeom prst="rect">
            <a:avLst/>
          </a:prstGeom>
          <a:ln w="0">
            <a:noFill/>
          </a:ln>
        </p:spPr>
      </p:pic>
      <p:sp>
        <p:nvSpPr>
          <p:cNvPr id="1507" name="矩形 130050"/>
          <p:cNvSpPr/>
          <p:nvPr/>
        </p:nvSpPr>
        <p:spPr>
          <a:xfrm>
            <a:off x="1784520" y="3002040"/>
            <a:ext cx="67608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131073" descr=""/>
          <p:cNvPicPr/>
          <p:nvPr/>
        </p:nvPicPr>
        <p:blipFill>
          <a:blip r:embed="rId1"/>
          <a:stretch/>
        </p:blipFill>
        <p:spPr>
          <a:xfrm>
            <a:off x="166680" y="1814400"/>
            <a:ext cx="8810640" cy="3229200"/>
          </a:xfrm>
          <a:prstGeom prst="rect">
            <a:avLst/>
          </a:prstGeom>
          <a:ln w="0">
            <a:noFill/>
          </a:ln>
        </p:spPr>
      </p:pic>
      <p:sp>
        <p:nvSpPr>
          <p:cNvPr id="1509" name="矩形 131074"/>
          <p:cNvSpPr/>
          <p:nvPr/>
        </p:nvSpPr>
        <p:spPr>
          <a:xfrm>
            <a:off x="3600360" y="4246560"/>
            <a:ext cx="82728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132097" descr=""/>
          <p:cNvPicPr/>
          <p:nvPr/>
        </p:nvPicPr>
        <p:blipFill>
          <a:blip r:embed="rId1"/>
          <a:stretch/>
        </p:blipFill>
        <p:spPr>
          <a:xfrm>
            <a:off x="452520" y="1409760"/>
            <a:ext cx="8238960" cy="4038480"/>
          </a:xfrm>
          <a:prstGeom prst="rect">
            <a:avLst/>
          </a:prstGeom>
          <a:ln w="0">
            <a:noFill/>
          </a:ln>
        </p:spPr>
      </p:pic>
      <p:sp>
        <p:nvSpPr>
          <p:cNvPr id="1511" name="矩形 132098"/>
          <p:cNvSpPr/>
          <p:nvPr/>
        </p:nvSpPr>
        <p:spPr>
          <a:xfrm>
            <a:off x="438120" y="1452600"/>
            <a:ext cx="838188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32099"/>
          <p:cNvSpPr/>
          <p:nvPr/>
        </p:nvSpPr>
        <p:spPr>
          <a:xfrm>
            <a:off x="450720" y="1871640"/>
            <a:ext cx="838224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132100"/>
          <p:cNvSpPr/>
          <p:nvPr/>
        </p:nvSpPr>
        <p:spPr>
          <a:xfrm>
            <a:off x="395280" y="2289240"/>
            <a:ext cx="838188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32101"/>
          <p:cNvSpPr/>
          <p:nvPr/>
        </p:nvSpPr>
        <p:spPr>
          <a:xfrm>
            <a:off x="450720" y="3090960"/>
            <a:ext cx="83822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32102"/>
          <p:cNvSpPr/>
          <p:nvPr/>
        </p:nvSpPr>
        <p:spPr>
          <a:xfrm>
            <a:off x="349200" y="3827520"/>
            <a:ext cx="8381880" cy="33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32103"/>
          <p:cNvSpPr/>
          <p:nvPr/>
        </p:nvSpPr>
        <p:spPr>
          <a:xfrm>
            <a:off x="488880" y="4272120"/>
            <a:ext cx="8382240" cy="59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32104"/>
          <p:cNvSpPr/>
          <p:nvPr/>
        </p:nvSpPr>
        <p:spPr>
          <a:xfrm>
            <a:off x="450720" y="4944960"/>
            <a:ext cx="838224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171360" y="1967040"/>
            <a:ext cx="8801280" cy="292392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6"/>
          <p:cNvSpPr/>
          <p:nvPr/>
        </p:nvSpPr>
        <p:spPr>
          <a:xfrm>
            <a:off x="8317080" y="206064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2881" descr=""/>
          <p:cNvPicPr/>
          <p:nvPr/>
        </p:nvPicPr>
        <p:blipFill>
          <a:blip r:embed="rId1"/>
          <a:stretch/>
        </p:blipFill>
        <p:spPr>
          <a:xfrm>
            <a:off x="142920" y="952560"/>
            <a:ext cx="8858160" cy="495288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2882"/>
          <p:cNvSpPr/>
          <p:nvPr/>
        </p:nvSpPr>
        <p:spPr>
          <a:xfrm>
            <a:off x="8229600" y="1004760"/>
            <a:ext cx="36036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1857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839440" cy="2419560"/>
          </a:xfrm>
          <a:prstGeom prst="rect">
            <a:avLst/>
          </a:prstGeom>
          <a:ln w="0">
            <a:noFill/>
          </a:ln>
        </p:spPr>
      </p:pic>
      <p:pic>
        <p:nvPicPr>
          <p:cNvPr id="1440" name="图片 121858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4419720" cy="203868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1859"/>
          <p:cNvSpPr/>
          <p:nvPr/>
        </p:nvSpPr>
        <p:spPr>
          <a:xfrm>
            <a:off x="5076720" y="213372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0833" descr=""/>
          <p:cNvPicPr/>
          <p:nvPr/>
        </p:nvPicPr>
        <p:blipFill>
          <a:blip r:embed="rId1"/>
          <a:stretch/>
        </p:blipFill>
        <p:spPr>
          <a:xfrm>
            <a:off x="162000" y="928800"/>
            <a:ext cx="8820000" cy="500040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0834"/>
          <p:cNvSpPr/>
          <p:nvPr/>
        </p:nvSpPr>
        <p:spPr>
          <a:xfrm>
            <a:off x="8244000" y="83664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0835"/>
          <p:cNvSpPr/>
          <p:nvPr/>
        </p:nvSpPr>
        <p:spPr>
          <a:xfrm>
            <a:off x="8218440" y="440532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19809" descr=""/>
          <p:cNvPicPr/>
          <p:nvPr/>
        </p:nvPicPr>
        <p:blipFill>
          <a:blip r:embed="rId1"/>
          <a:stretch/>
        </p:blipFill>
        <p:spPr>
          <a:xfrm>
            <a:off x="162000" y="2214720"/>
            <a:ext cx="8820000" cy="242856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19810"/>
          <p:cNvSpPr/>
          <p:nvPr/>
        </p:nvSpPr>
        <p:spPr>
          <a:xfrm>
            <a:off x="8258040" y="3592440"/>
            <a:ext cx="36036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18785" descr=""/>
          <p:cNvPicPr/>
          <p:nvPr/>
        </p:nvPicPr>
        <p:blipFill>
          <a:blip r:embed="rId1"/>
          <a:stretch/>
        </p:blipFill>
        <p:spPr>
          <a:xfrm>
            <a:off x="266760" y="765000"/>
            <a:ext cx="8877240" cy="556272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18786"/>
          <p:cNvSpPr/>
          <p:nvPr/>
        </p:nvSpPr>
        <p:spPr>
          <a:xfrm>
            <a:off x="8388360" y="191628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17761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867880" cy="3752640"/>
          </a:xfrm>
          <a:prstGeom prst="rect">
            <a:avLst/>
          </a:prstGeom>
          <a:ln w="0">
            <a:noFill/>
          </a:ln>
        </p:spPr>
      </p:pic>
      <p:pic>
        <p:nvPicPr>
          <p:cNvPr id="1450" name="图片 117762" descr=""/>
          <p:cNvPicPr/>
          <p:nvPr/>
        </p:nvPicPr>
        <p:blipFill>
          <a:blip r:embed="rId2"/>
          <a:stretch/>
        </p:blipFill>
        <p:spPr>
          <a:xfrm>
            <a:off x="468360" y="5084640"/>
            <a:ext cx="4886280" cy="97164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7763"/>
          <p:cNvSpPr/>
          <p:nvPr/>
        </p:nvSpPr>
        <p:spPr>
          <a:xfrm>
            <a:off x="8172360" y="162864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2:44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